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CB7-CA5D-49C8-805E-D39ABA98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72E-4D7F-40E0-BDD8-6B6364B8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720-7700-4791-AD04-A308B850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DA7-B2B7-4671-B52C-B1504BD8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183-A3BB-4CC8-B003-5CB2DFB1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E6F-D29E-476F-9D16-F9ED6A9A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63C-4838-425F-A0B0-A0A0FA64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AD9-6F65-4E8E-A60C-9079E92C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D68-2723-4208-9577-54791214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5C8-44FA-484E-9DF0-6E40B904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D9D-30FD-4172-839E-6C61DB08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1A1-9F90-4081-923D-7ADC121D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FE77-3FCB-486C-952A-AF4DFA3DF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28-29 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января 20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14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Сведения о НИР 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в 2013 году (часть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712800"/>
          <a:ext cx="8785440" cy="591012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ими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8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2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7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4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остранных язы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3 2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3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.ч.: - Морско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9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нститут Арктики и Субантарк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 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ГЭ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 8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Лаборатория спутниковой океан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правление международных связ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 73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 04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5964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оличество студентов и аспирантов, участвовавших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в выполнении НИР в 20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44680" y="847800"/>
            <a:ext cx="47354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Результативность научных исследований в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 2013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4360" y="692280"/>
          <a:ext cx="7991280" cy="5775120"/>
        </p:xfrm>
        <a:graphic>
          <a:graphicData uri="http://schemas.openxmlformats.org/drawingml/2006/table">
            <a:tbl>
              <a:tblPr/>
              <a:tblGrid>
                <a:gridCol w="6264000"/>
                <a:gridCol w="1727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нограф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частие сотрудников РГГМУ в симпозиумах, конференциях, семинарах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:       - международные конферен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сероссийские конферен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региональные и прочие конфер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чебники и учебные посо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татьи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: - в зарубежных изда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</a:t>
                      </a: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статьи в ведущих рецензируемых изданиях, входящих в перечень ВА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</a:t>
                      </a: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статьи в сборниках и других изда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явки на объекты промышленной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зобре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олезные мо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атенты Рос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видетельства  о государственной регистрации Роспатент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рограмм ЭВ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</a:t>
                      </a: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баз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частие в выстав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том числе междунаро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емии, дипломы, награ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зультативность научных исследований факультетов РГГ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1600200"/>
          <a:ext cx="8713800" cy="3844800"/>
        </p:xfrm>
        <a:graphic>
          <a:graphicData uri="http://schemas.openxmlformats.org/drawingml/2006/table">
            <a:tbl>
              <a:tblPr/>
              <a:tblGrid>
                <a:gridCol w="2016360"/>
                <a:gridCol w="1008000"/>
                <a:gridCol w="936720"/>
                <a:gridCol w="1368360"/>
                <a:gridCol w="1368360"/>
                <a:gridCol w="770040"/>
                <a:gridCol w="1245960"/>
              </a:tblGrid>
              <a:tr h="315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ивность научных исследова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и и учебные пособ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и в зарубежных изданиях и ведущих журналах  перечня ВА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ки на объекты промышленной собственн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е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детельства о государственной регистрации Роспатентом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 и ФП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 и С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 и Г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ленарное заседание</a:t>
            </a:r>
            <a:br>
              <a:rPr sz="1400"/>
            </a:b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1200" spc="-1" strike="noStrike">
                <a:solidFill>
                  <a:srgbClr val="ff3300"/>
                </a:solidFill>
                <a:latin typeface="Bookman Old Style"/>
              </a:rPr>
              <a:t>8</a:t>
            </a: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 января 20</a:t>
            </a:r>
            <a:r>
              <a:rPr b="1" lang="en-US" sz="1200" spc="-1" strike="noStrike">
                <a:solidFill>
                  <a:srgbClr val="ff3300"/>
                </a:solidFill>
                <a:latin typeface="Bookman Old Style"/>
              </a:rPr>
              <a:t>14</a:t>
            </a: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 г., Актовый зал РГГ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1062000"/>
            <a:ext cx="5925960" cy="536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аучная деятельность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 20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13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Основные научные направления </a:t>
            </a:r>
            <a:r>
              <a:rPr b="1" lang="en-US" sz="2400" spc="-1" strike="noStrike">
                <a:solidFill>
                  <a:srgbClr val="ff3300"/>
                </a:solidFill>
                <a:latin typeface="Bookman Old Style"/>
              </a:rPr>
              <a:t>РГГ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71640" y="765000"/>
          <a:ext cx="6983280" cy="5761080"/>
        </p:xfrm>
        <a:graphic>
          <a:graphicData uri="http://schemas.openxmlformats.org/drawingml/2006/table">
            <a:tbl>
              <a:tblPr/>
              <a:tblGrid>
                <a:gridCol w="441360"/>
                <a:gridCol w="654192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6520" y="289080"/>
            <a:ext cx="8138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Сводные сведения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 о выполнении НИР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в 201</a:t>
            </a: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8000" y="1341360"/>
          <a:ext cx="8785080" cy="5181840"/>
        </p:xfrm>
        <a:graphic>
          <a:graphicData uri="http://schemas.openxmlformats.org/drawingml/2006/table">
            <a:tbl>
              <a:tblPr/>
              <a:tblGrid>
                <a:gridCol w="684000"/>
                <a:gridCol w="4040280"/>
                <a:gridCol w="1611360"/>
                <a:gridCol w="24494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федераль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9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истерство образования и науки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44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Субъектов Федерации,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 учетом грантов и субсидий студентов, аспирантов, молодых ученых и молодых кандидатов нау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77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оздоговорны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95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еминары, конференции. совещ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ранты Р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5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ждународные прое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97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55 040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9640" y="333360"/>
          <a:ext cx="8226360" cy="574560"/>
        </p:xfrm>
        <a:graphic>
          <a:graphicData uri="http://schemas.openxmlformats.org/drawingml/2006/table">
            <a:tbl>
              <a:tblPr/>
              <a:tblGrid>
                <a:gridCol w="822636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ъемы НИР Государственного задания, ФЦП в 2013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961920" y="1371600"/>
          <a:ext cx="7448760" cy="55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371600"/>
                    <a:ext cx="7448760" cy="55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Распределение тем НИР </a:t>
            </a:r>
            <a:r>
              <a:rPr b="1" lang="en-US" sz="1800" spc="-1" strike="noStrike">
                <a:solidFill>
                  <a:srgbClr val="ff3300"/>
                </a:solidFill>
                <a:latin typeface="Bookman Old Style"/>
              </a:rPr>
              <a:t>по факультетам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в 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593640"/>
          <a:ext cx="8353440" cy="6176880"/>
        </p:xfrm>
        <a:graphic>
          <a:graphicData uri="http://schemas.openxmlformats.org/drawingml/2006/table">
            <a:tbl>
              <a:tblPr/>
              <a:tblGrid>
                <a:gridCol w="3539880"/>
                <a:gridCol w="1789200"/>
                <a:gridCol w="302436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900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94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04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систем и гео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0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3 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.ч.: - Морской  инстит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9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ГЭ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8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нститут Арктики и Субантар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Лаборатория спутниковой океан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3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правление международных связ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73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60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Сведения по НИР за 2013 год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(по факультетам РГГМ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692280"/>
          <a:ext cx="8244000" cy="5900760"/>
        </p:xfrm>
        <a:graphic>
          <a:graphicData uri="http://schemas.openxmlformats.org/drawingml/2006/table">
            <a:tbl>
              <a:tblPr/>
              <a:tblGrid>
                <a:gridCol w="1469880"/>
                <a:gridCol w="357480"/>
                <a:gridCol w="646560"/>
                <a:gridCol w="286200"/>
                <a:gridCol w="520200"/>
                <a:gridCol w="284760"/>
                <a:gridCol w="558360"/>
                <a:gridCol w="240480"/>
                <a:gridCol w="584640"/>
                <a:gridCol w="144000"/>
                <a:gridCol w="501120"/>
                <a:gridCol w="144000"/>
                <a:gridCol w="466560"/>
                <a:gridCol w="249840"/>
                <a:gridCol w="573840"/>
                <a:gridCol w="429840"/>
                <a:gridCol w="786240"/>
              </a:tblGrid>
              <a:tr h="85536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стерство образования и науки Российской Федер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субъектов федерации (Санкт-Петербург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86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60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900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26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946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8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4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3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 96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3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 80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2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4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х систем и геотехнолог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5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04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87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8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41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80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2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73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3 263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:  -  Морской институ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9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нститут Арктики и Субантаркт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Э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1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18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 876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аборатория  спутниковой океанограф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3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45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международных связ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73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73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785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4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95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72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79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55 0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1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2880"/>
            <a:ext cx="85690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Сведения о НИР 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в 2013 году (часть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9280" y="1197000"/>
          <a:ext cx="8785440" cy="525924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АК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42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0 638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Ф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КО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УП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9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7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7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7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систем и гео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технологий и систем безопас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кладной информа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ских измерительных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ысшей математики и теоретической меха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0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User</cp:lastModifiedBy>
  <dcterms:modified xsi:type="dcterms:W3CDTF">2014-02-04T05:12:20Z</dcterms:modified>
  <cp:revision>689</cp:revision>
  <dc:subject/>
  <dc:title>Итоговая сессия Ученого совета РГГМУ</dc:title>
</cp:coreProperties>
</file>